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move the slide</a:t>
            </a:r>
            <a:endParaRPr b="0" lang="en-US" sz="4500" spc="-1" strike="noStrike">
              <a:solidFill>
                <a:srgbClr val="ffffff"/>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77DF-D42D-4CD9-85E6-FEC0570A6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17440" y="676440"/>
            <a:ext cx="4611960" cy="3458880"/>
          </a:xfrm>
          <a:prstGeom prst="rect">
            <a:avLst/>
          </a:prstGeom>
          <a:ln w="0">
            <a:noFill/>
          </a:ln>
        </p:spPr>
      </p:sp>
      <p:sp>
        <p:nvSpPr>
          <p:cNvPr id="147" name="PlaceHolder 2"/>
          <p:cNvSpPr>
            <a:spLocks noGrp="1"/>
          </p:cNvSpPr>
          <p:nvPr>
            <p:ph type="body"/>
          </p:nvPr>
        </p:nvSpPr>
        <p:spPr>
          <a:xfrm>
            <a:off x="892080" y="4358880"/>
            <a:ext cx="506088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IV is a new epidemic and we are still learning what works. As new things are tried, we need to understand whether they work or not to see if they should be  included in nationa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hift in priorities: in the first decade or so, the emphasis was on prevention. As the HIV epidemic turns into an AIDS epidemic, new priorities emerge in care of the sick, support to families coping with AIDS, orphan care. Also, countries are only now beginning to grapple with the socio-economic impact of the epidemic, especially outside the health ar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IV is politically-charged: we need careful measurement of impact to convince reluctant policy-makers to support programs. I.e. the new focus in the United States on AIDS as a security threat reaches a whole new audience who might have ignored the epidemic overseas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Justify funding: Anyone who has followed the epidemic over the years (domestically and internationally) knows that getting funding has been a long, difficult process. In the last 5 years, funding for international programs has increased, but good data are needed to justify continued, and even increased spending in this are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636560" y="225360"/>
            <a:ext cx="3557880" cy="2668680"/>
          </a:xfrm>
          <a:prstGeom prst="rect">
            <a:avLst/>
          </a:prstGeom>
          <a:ln w="0">
            <a:noFill/>
          </a:ln>
        </p:spPr>
      </p:sp>
      <p:sp>
        <p:nvSpPr>
          <p:cNvPr id="149" name="PlaceHolder 2"/>
          <p:cNvSpPr>
            <a:spLocks noGrp="1"/>
          </p:cNvSpPr>
          <p:nvPr>
            <p:ph type="body"/>
          </p:nvPr>
        </p:nvSpPr>
        <p:spPr>
          <a:xfrm>
            <a:off x="912960" y="3125880"/>
            <a:ext cx="5032080" cy="513216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Speaker Not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mp;E helps you make informed decisions about your program operations. It helps you make the most effective and efficient use of resources. It helps you determine exactly where your program is right on track and where you need to consider making corrections. And M&amp;E helps you come to objective conclusions regarding the extent to which your program’s impact can be judged a “succes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mp;E is indispensable because these tools inform planners, managers, and implementers whether or to what extent the program or project is operating effectively and according to expectations. By keeping track of specific areas of program performance, operational problems can be identified while they can still be corrected and thus ongoing performance can be improved. Meanwhile, managers can also keep track of the extent to which activities are having their desired effects. Results demonstrated through good monitoring and evaluation techniques enable decision makers also to correct strategies or even overcome unanticipated difficultie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ther words, M&amp;E improves the program’s ultimate impact through better information and increased understanding even while activities are in progress. And as results are shared, the ongoing projects of others, and the future design of comparable activities and their implementation, likewise can all be improved.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Additional Background</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n important point here is that the significance and value of M&amp;E is realized only through </a:t>
            </a:r>
            <a:r>
              <a:rPr b="1" i="1" lang="en-US" sz="1100" spc="-1" strike="noStrike">
                <a:solidFill>
                  <a:srgbClr val="000000"/>
                </a:solidFill>
                <a:latin typeface="Arial"/>
              </a:rPr>
              <a:t>use of the M&amp;E data</a:t>
            </a:r>
            <a:r>
              <a:rPr b="0" i="1" lang="en-US" sz="1100" spc="-1" strike="noStrike">
                <a:solidFill>
                  <a:srgbClr val="000000"/>
                </a:solidFill>
                <a:latin typeface="Arial"/>
              </a:rPr>
              <a:t>. It is not important in and of itself to collect numbers, even the best numbers, nor is it abstractly important to construct the perfect indicators. If data is not reviewed and interpreted and then fed back into decision-making, M&amp;E’s ultimate purpose -- program improvement -- cannot be met. To be good M&amp;E, it must be M&amp;E that is actively used in problem-solving within the ongoing program, and in further steps of decision-making.</a:t>
            </a:r>
            <a:endParaRPr b="0" lang="en-US" sz="1100" spc="-1" strike="noStrike">
              <a:solidFill>
                <a:srgbClr val="000000"/>
              </a:solidFill>
              <a:latin typeface="Times New Roman"/>
            </a:endParaRPr>
          </a:p>
        </p:txBody>
      </p:sp>
      <p:sp>
        <p:nvSpPr>
          <p:cNvPr id="150" name=""/>
          <p:cNvSpPr/>
          <p:nvPr/>
        </p:nvSpPr>
        <p:spPr>
          <a:xfrm>
            <a:off x="771480" y="6135840"/>
            <a:ext cx="184320" cy="458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17720" y="304920"/>
            <a:ext cx="2946240" cy="2209680"/>
          </a:xfrm>
          <a:prstGeom prst="rect">
            <a:avLst/>
          </a:prstGeom>
          <a:ln w="0">
            <a:noFill/>
          </a:ln>
        </p:spPr>
      </p:sp>
      <p:sp>
        <p:nvSpPr>
          <p:cNvPr id="152" name="PlaceHolder 2"/>
          <p:cNvSpPr>
            <a:spLocks noGrp="1"/>
          </p:cNvSpPr>
          <p:nvPr>
            <p:ph type="body"/>
          </p:nvPr>
        </p:nvSpPr>
        <p:spPr>
          <a:xfrm>
            <a:off x="898200" y="2555640"/>
            <a:ext cx="5235480" cy="623700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Speaker Not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noted previously, there are important and sometimes quite complicated distinctions made between monitoring and evaluation. In this workshop, we simplify these distinctions into two functional areas. Monitoring activities are those that provide periodic results data that are immediately and directly related to specific program activities, such as counting the number of condoms that are distributed from warehouses to clinics through a Social Marketing Scheme. Evaluation or impact assessment involves further investigation or interpretation of results, often in order to understand how the program has had an impact, or the degree to which the program can take credit for any measured change in some overall outcome. In other words, evaluation activities go beyond the scope of the program to consider, and sort out the influence of, other factors. For instance, if men in rural areas do not use the socially-marketed condoms, it may be that they do not wish to pick them up at clinics for fear of being seen and suspected of promiscuity. Monitoring may reveal that not many condoms are not being taken by men, but it will require an evaluation activity to reveal that factors outside SM activities are the key issue. Then the program can perhaps be adjusted to deliver condoms to pharmacies or other outlets, as well as clinics, in rural area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Additional Background</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gain, emphasis in discussion should be that both monitoring and evaluation are crucial activities for ensuring strong program performance and achievement of the desired objectives in the end.</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Exampl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nitoring:</a:t>
            </a:r>
            <a:r>
              <a:rPr b="0" lang="en-US" sz="1100" spc="-1" strike="noStrike">
                <a:solidFill>
                  <a:srgbClr val="000000"/>
                </a:solidFill>
                <a:latin typeface="Arial"/>
              </a:rPr>
              <a:t>  Family planning managers may want to track the number of new acceptors of modern methods of contraception over tim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aluation:</a:t>
            </a:r>
            <a:r>
              <a:rPr b="0" lang="en-US" sz="1100" spc="-1" strike="noStrike">
                <a:solidFill>
                  <a:srgbClr val="000000"/>
                </a:solidFill>
                <a:latin typeface="Arial"/>
              </a:rPr>
              <a:t>  Family planning managers may want to determine how much of a recent increase in the measured use of a specific type of modern contraceptive method (new acceptors and continuing users, minus discontinuations) is due to their new promotion or marketing approach.</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omic Sans MS"/>
              </a:rPr>
              <a:t>Activiti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Ask participants:  How have you used monitoring and evaluation data in the past? What problems did you encounter? What questions or issues are best raised and addressed through performance monitoring?  What questions or issues might be better to raise and address through evaluation? Discus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711440" y="299880"/>
            <a:ext cx="3456000" cy="2592720"/>
          </a:xfrm>
          <a:prstGeom prst="rect">
            <a:avLst/>
          </a:prstGeom>
          <a:ln w="0">
            <a:noFill/>
          </a:ln>
        </p:spPr>
      </p:sp>
      <p:sp>
        <p:nvSpPr>
          <p:cNvPr id="154" name="PlaceHolder 2"/>
          <p:cNvSpPr>
            <a:spLocks noGrp="1"/>
          </p:cNvSpPr>
          <p:nvPr>
            <p:ph type="body"/>
          </p:nvPr>
        </p:nvSpPr>
        <p:spPr>
          <a:xfrm>
            <a:off x="912960" y="3125880"/>
            <a:ext cx="5032080" cy="533232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Speaker Not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e way to think of it is as Monitoring and Evaluation being two sides of the measurement coin. They both “buy” you better understanding of how your program is working.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is the set of activities and data collection that allows an accurate understanding of specific program activities and the extent to which they are working according to plan, and areas where they may not be working out exactly according to prior expectations. Evaluation is the set of activities and data collection that allows an accurate understanding of the way the program is or is not working, in its real-worldcontext, and in conjunction with a range of other factors affecting activities and targets, including for instance the host government’s health interventions or other activities, other donors and their activities, and social or environmental attributes that may fall beyond the scope of the health intervention.</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Additional Background</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The gist of these distinctions can also be illustrated by noting that monitoring is oriented toward measuring the details of many of the operational aspects of the intervention, such as inputs, processes, immediate impacts or effects, and overall outcomes. Evaluation, on the other hand, is oriented toward developing an analytical understanding of the program as it operates in the bigger picture of the real world, in other words deliberately encompassing a fuller and much more complicated range of factors at work in that context, with an aim of distinguishing the impacts of these other factors from the true effectiveness of the project’s specific intervention.</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636560" y="299880"/>
            <a:ext cx="3456000" cy="2592720"/>
          </a:xfrm>
          <a:prstGeom prst="rect">
            <a:avLst/>
          </a:prstGeom>
          <a:ln w="0">
            <a:noFill/>
          </a:ln>
        </p:spPr>
      </p:sp>
      <p:sp>
        <p:nvSpPr>
          <p:cNvPr id="156" name="PlaceHolder 2"/>
          <p:cNvSpPr>
            <a:spLocks noGrp="1"/>
          </p:cNvSpPr>
          <p:nvPr>
            <p:ph type="body"/>
          </p:nvPr>
        </p:nvSpPr>
        <p:spPr>
          <a:xfrm>
            <a:off x="912960" y="3125880"/>
            <a:ext cx="5140080" cy="533232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Speaker Not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ain elements of the graph shown: vertical axis can be any monitoring indicator, horizontal axis is the time over which a program runs, and each bar represents the periodic measurement of the indicator over the lifetime of the program.]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this graph illustrates, monitoring involves knowing a few key things about your outcomes of interest. Indicator data systems will be covered in the third core module, but for the purposes of understanding this picture, note that monitoring requires data to construct indicators for your outcomes of interest at several points. At a minimum, the program must have all data necessary to calculate your indicator’s value before or near the start of the related intervention, and at or after the end of the intervention. Ideally, monitoring will measure the indicator at periodic intervals while the program is ongoing, both to track incremental program performance and to discover if activities or other factors need adjustment during the intervention in order to improve the ultimate outcome. For instance, if recurrent stock-outs occur,  either augmenting supply levels or multiplying supply schedules could lead to a higher measured use due to the program in the final evaluation.</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Additional Background</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ote that monitoring does not involve determining or attributing the cause of a change in the measured indicator. Even cumulative data can be used to monitor performance -- the rate of change is not investigated, but rather notice taken of the overall change in the measured level of a relevant outcome over a period of time. Methodological issues are less complex than issues that need to be taken into consideration in designing and carrying out an evaluation analysi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Exampl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tpatients seen (per day/week/month, per staff person, per facility, per servic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S packets distributed; mothers who report knowing when/how to use OR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rkshops held; trainees trained; person/days of training; etc.</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11280" y="304920"/>
            <a:ext cx="3762360" cy="2820960"/>
          </a:xfrm>
          <a:prstGeom prst="rect">
            <a:avLst/>
          </a:prstGeom>
          <a:ln w="0">
            <a:noFill/>
          </a:ln>
        </p:spPr>
      </p:sp>
      <p:sp>
        <p:nvSpPr>
          <p:cNvPr id="158" name="PlaceHolder 2"/>
          <p:cNvSpPr>
            <a:spLocks noGrp="1"/>
          </p:cNvSpPr>
          <p:nvPr>
            <p:ph type="body"/>
          </p:nvPr>
        </p:nvSpPr>
        <p:spPr>
          <a:xfrm>
            <a:off x="912600" y="3274920"/>
            <a:ext cx="5514840" cy="518328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Speaker Not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ain new elements of the graph shown: evaluation is typically done midstream or after the completion of a project, rather than repeated at regular intervals throughout the program’s active implementation. Note that the line indicating the level of the outcome indicator without the program will be an estimate rather than a measure, in all cases except a formal, controlled experiment. Therefore the difference in outcome with the program versus without is an analytical exercise rather than a direct measurement.]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cause attribution of results to a particular program/project intervention demands that alternative reasons for the results be investigated or controlled for, more extensive knowledge of sampling and statistical analysis are sometimes required for constructing evaluation indicators. While similarities between the evaluation process and monitoring, both requiring knowledge of baseline values and final values, often with an interim measurement during the project, evaluation crucially differs in that the goal is to make a determination of the amount of the change in outcome that is due to the program or intervention. In other words, pure numbers cannot tell the evaluation tale; evaluation is fundamentally an analytical exercise to help decision makers understand when, how, and to what extent the program is responsible for particular, measured impact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Exampl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pulation knowledge of IEC campaign messag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lity of care provided by program-trained midwiv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aborative networks of NGOs established</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omic Sans MS"/>
              </a:rPr>
              <a:t>Activiti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You may wish to combine this discussion activity with the previous slide, to cover Monitoring and Evaluation. </a:t>
            </a:r>
            <a:r>
              <a:rPr b="0" lang="en-US" sz="1100" spc="-1" strike="noStrike">
                <a:solidFill>
                  <a:srgbClr val="000000"/>
                </a:solidFill>
                <a:latin typeface="Comic Sans MS"/>
              </a:rPr>
              <a:t>Solicit further examples of both M and E indicators from participants. Should time frames vary? If there is interest, begin a preliminary discussion about indicator selection, with one possible topic being whether the examples that are provided are monitoring indicators, or evaluation indicators, or could be used for either depending on the program/context. </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491A25-8249-48C1-800E-C23C23BC1B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F6A4C0-CCE9-4A58-AC0D-592B8B801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7E6FD9-60C8-4452-8BB3-9D3BA23AB0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C23C8F-EA6C-418D-A507-C5BC3B6957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48507-528D-40EF-943B-655C66FED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ED418-D009-4876-8BA5-C42678D21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FC430-EC8B-4363-BAC6-845E1BC6B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78044-0511-470F-A61C-8834DA8FA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15FF0-A86F-46A7-87EC-F10D7A3BC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E367B-AB09-435B-BD9B-75EC58407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FD296-54F4-40E5-946F-F4437F141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35076C-02A6-44FF-B348-D1BEBE9BD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9BEA6-9BFE-4FB0-A763-7CBCE9776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B75A6-5285-469C-9061-D60E8AFF0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74800-AACF-4E17-A4DE-0AAE9C0FC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6E9FE-DC79-4C83-A188-191528F918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3D4E1-0DC6-40D7-804C-1F02D05722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E4A51B-6E5F-4D8D-A37F-3A94C2779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2791E4-0581-4EC2-9AB8-81501C9C7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61FCEF-8196-4AB5-99E3-DD674D94C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CE787B-7094-4A5F-8825-F0D1D2C7E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AB5E7A-DB65-43E8-8AB2-84C6EA671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11F820-F47E-48F4-A92D-4387F6383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DE435D-F820-4257-942A-601CA294D92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DC89-8BE5-4A0F-B3D9-EA3D527D527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0738-79E7-41F3-96A0-F7CA401FA0A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14600" y="2209320"/>
            <a:ext cx="483552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valuación y Monitoreo de Programas para el Control de la TB</a:t>
            </a:r>
            <a:endParaRPr b="0" lang="en-US" sz="3200" spc="-1" strike="noStrike">
              <a:solidFill>
                <a:srgbClr val="ffffff"/>
              </a:solidFill>
              <a:latin typeface="Arial"/>
            </a:endParaRPr>
          </a:p>
        </p:txBody>
      </p:sp>
      <p:graphicFrame>
        <p:nvGraphicFramePr>
          <p:cNvPr id="122" name=""/>
          <p:cNvGraphicFramePr/>
          <p:nvPr/>
        </p:nvGraphicFramePr>
        <p:xfrm>
          <a:off x="6711840" y="0"/>
          <a:ext cx="2432160" cy="6858000"/>
        </p:xfrm>
        <a:graphic>
          <a:graphicData uri="http://schemas.openxmlformats.org/presentationml/2006/ole">
            <p:oleObj r:id="rId1" spid="">
              <p:embed/>
              <p:pic>
                <p:nvPicPr>
                  <p:cNvPr id="123" name="" descr=""/>
                  <p:cNvPicPr/>
                  <p:nvPr/>
                </p:nvPicPr>
                <p:blipFill>
                  <a:blip r:embed="rId2"/>
                  <a:stretch/>
                </p:blipFill>
                <p:spPr>
                  <a:xfrm>
                    <a:off x="6711840" y="0"/>
                    <a:ext cx="2432160" cy="6858000"/>
                  </a:xfrm>
                  <a:prstGeom prst="rect">
                    <a:avLst/>
                  </a:prstGeom>
                  <a:ln w="0">
                    <a:noFill/>
                  </a:ln>
                </p:spPr>
              </p:pic>
            </p:oleObj>
          </a:graphicData>
        </a:graphic>
      </p:graphicFrame>
      <p:sp>
        <p:nvSpPr>
          <p:cNvPr id="124" name=""/>
          <p:cNvSpPr/>
          <p:nvPr/>
        </p:nvSpPr>
        <p:spPr>
          <a:xfrm>
            <a:off x="2362320" y="5181480"/>
            <a:ext cx="304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rin Eckert, Ph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609120"/>
            <a:ext cx="71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800" spc="-1" strike="noStrike">
                <a:solidFill>
                  <a:srgbClr val="ffffff"/>
                </a:solidFill>
                <a:latin typeface="Arial"/>
              </a:rPr>
              <a:t>Porque es importante realizar evaluación y monitoreo en los programas nacionales para el control de la TB?</a:t>
            </a:r>
            <a:r>
              <a:rPr b="0" lang="es-ES" sz="2400" spc="-1" strike="noStrike">
                <a:solidFill>
                  <a:srgbClr val="ffcc00"/>
                </a:solidFill>
                <a:latin typeface="Arial"/>
              </a:rPr>
              <a:t> </a:t>
            </a:r>
            <a:r>
              <a:rPr b="0" lang="es-ES" sz="3500" spc="-1" strike="noStrike">
                <a:solidFill>
                  <a:srgbClr val="ffffff"/>
                </a:solidFill>
                <a:latin typeface="Arial"/>
              </a:rPr>
              <a:t>  </a:t>
            </a:r>
            <a:endParaRPr b="0" lang="en-US" sz="3500" spc="-1" strike="noStrike">
              <a:solidFill>
                <a:srgbClr val="ffffff"/>
              </a:solidFill>
              <a:latin typeface="Arial"/>
            </a:endParaRPr>
          </a:p>
        </p:txBody>
      </p:sp>
      <p:sp>
        <p:nvSpPr>
          <p:cNvPr id="126" name="PlaceHolder 2"/>
          <p:cNvSpPr>
            <a:spLocks noGrp="1"/>
          </p:cNvSpPr>
          <p:nvPr>
            <p:ph/>
          </p:nvPr>
        </p:nvSpPr>
        <p:spPr>
          <a:xfrm>
            <a:off x="990360" y="2259000"/>
            <a:ext cx="7630920" cy="373536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ra hacer vigilancia epidemiológica de la TB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ra tener mejor entendimiento de los programas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ra reconocer prioridades  </a:t>
            </a:r>
            <a:endParaRPr b="0" lang="en-US" sz="28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ra buscar un compromiso político basado en las necesidades de acción y recursos (financieros y humanos)</a:t>
            </a:r>
            <a:r>
              <a:rPr b="0" lang="es-ES" sz="2400" spc="-1" strike="noStrike">
                <a:solidFill>
                  <a:srgbClr val="ffffff"/>
                </a:solidFill>
                <a:latin typeface="Arial"/>
              </a:rPr>
              <a:t>  </a:t>
            </a:r>
            <a:endParaRPr b="0" lang="en-US" sz="2400" spc="-1" strike="noStrike">
              <a:solidFill>
                <a:srgbClr val="ffffff"/>
              </a:solidFill>
              <a:latin typeface="Arial"/>
            </a:endParaRPr>
          </a:p>
        </p:txBody>
      </p:sp>
      <p:sp>
        <p:nvSpPr>
          <p:cNvPr id="127" name=""/>
          <p:cNvSpPr/>
          <p:nvPr/>
        </p:nvSpPr>
        <p:spPr>
          <a:xfrm>
            <a:off x="609480" y="1752480"/>
            <a:ext cx="784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00200" y="609120"/>
            <a:ext cx="72388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Componentes amplios de los programas de Monitoreo y Evaluación</a:t>
            </a:r>
            <a:r>
              <a:rPr b="0" lang="es-ES" sz="3900" spc="-1" strike="noStrike">
                <a:solidFill>
                  <a:srgbClr val="ffffff"/>
                </a:solidFill>
                <a:latin typeface="Arial"/>
              </a:rPr>
              <a:t> </a:t>
            </a:r>
            <a:endParaRPr b="0" lang="en-US" sz="3900" spc="-1" strike="noStrike">
              <a:solidFill>
                <a:srgbClr val="ffffff"/>
              </a:solidFill>
              <a:latin typeface="Arial"/>
            </a:endParaRPr>
          </a:p>
        </p:txBody>
      </p:sp>
      <p:sp>
        <p:nvSpPr>
          <p:cNvPr id="129" name="PlaceHolder 2"/>
          <p:cNvSpPr>
            <a:spLocks noGrp="1"/>
          </p:cNvSpPr>
          <p:nvPr>
            <p:ph/>
          </p:nvPr>
        </p:nvSpPr>
        <p:spPr>
          <a:xfrm>
            <a:off x="1142640" y="2285640"/>
            <a:ext cx="7426440" cy="39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onitoreo:</a:t>
            </a:r>
            <a:endParaRPr b="0" lang="en-US" sz="28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Contexto y esfuerzo del programa    </a:t>
            </a:r>
            <a:endParaRPr b="0" lang="en-US" sz="25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Conocimiento, actitud y comportamiento  </a:t>
            </a:r>
            <a:endParaRPr b="0" lang="en-US" sz="25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Acceso  y calidad de los servicio de salud</a:t>
            </a:r>
            <a:endParaRPr b="0" lang="en-US" sz="25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La dinámica de TB y TB/VIH  </a:t>
            </a:r>
            <a:endParaRPr b="0" lang="en-US" sz="25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valuación del Impacto de los Programa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Valoración del impacto)  </a:t>
            </a:r>
            <a:endParaRPr b="0" lang="en-US" sz="28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Determinar el grado de cambio que se puede atribuir a la intervención de los programa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endParaRPr b="0" lang="en-US" sz="3900" spc="-1" strike="noStrike">
              <a:solidFill>
                <a:srgbClr val="ffffff"/>
              </a:solidFill>
              <a:latin typeface="Arial"/>
            </a:endParaRPr>
          </a:p>
        </p:txBody>
      </p:sp>
      <p:sp>
        <p:nvSpPr>
          <p:cNvPr id="131" name="PlaceHolder 2"/>
          <p:cNvSpPr>
            <a:spLocks noGrp="1"/>
          </p:cNvSpPr>
          <p:nvPr>
            <p:ph/>
          </p:nvPr>
        </p:nvSpPr>
        <p:spPr>
          <a:xfrm>
            <a:off x="1599840" y="1371240"/>
            <a:ext cx="7010280" cy="4876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Los sistemas de Evaluación y Monitoreo ayudan a los implementadores de los programas 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omar decisiones adecuadas con respecto a las operaciones administrativas y la ejecución de los servicios</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segurar un uso efectivo y eficaz de los recursos.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valuar el grado de cumplimiento de los objetivos y hacer  las correcciones necesarias</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mplir con los requisitos de divulgación/reportaje requeridos por diversas agencias y sectores gubernamentales</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valuar el nivel de impacto que ha tenido el programa o proyecto basado en el impacto deseado</a:t>
            </a:r>
            <a:endParaRPr b="0" lang="en-US" sz="2000" spc="-1" strike="noStrike">
              <a:solidFill>
                <a:srgbClr val="ffffff"/>
              </a:solidFill>
              <a:latin typeface="Arial"/>
            </a:endParaRPr>
          </a:p>
        </p:txBody>
      </p:sp>
      <p:sp>
        <p:nvSpPr>
          <p:cNvPr id="132" name=""/>
          <p:cNvSpPr/>
          <p:nvPr/>
        </p:nvSpPr>
        <p:spPr>
          <a:xfrm>
            <a:off x="1752480" y="380880"/>
            <a:ext cx="678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tilización de los sistemas de Evaluación y Monitore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03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ONITOREO DEL DESEMPEÑO, VIGILANCIA Y EVALUACION DE DESPEMPEÑO</a:t>
            </a:r>
            <a:r>
              <a:rPr b="1" lang="es-ES" sz="2400" spc="-1" strike="noStrike">
                <a:solidFill>
                  <a:srgbClr val="ffffff"/>
                </a:solidFill>
                <a:latin typeface="Arial"/>
              </a:rPr>
              <a:t> </a:t>
            </a:r>
            <a:endParaRPr b="0" lang="en-US" sz="2400" spc="-1" strike="noStrike">
              <a:solidFill>
                <a:srgbClr val="ffffff"/>
              </a:solidFill>
              <a:latin typeface="Arial"/>
            </a:endParaRPr>
          </a:p>
        </p:txBody>
      </p:sp>
      <p:sp>
        <p:nvSpPr>
          <p:cNvPr id="134" name="PlaceHolder 2"/>
          <p:cNvSpPr>
            <a:spLocks noGrp="1"/>
          </p:cNvSpPr>
          <p:nvPr>
            <p:ph/>
          </p:nvPr>
        </p:nvSpPr>
        <p:spPr>
          <a:xfrm>
            <a:off x="228240" y="1828800"/>
            <a:ext cx="8381880" cy="4191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Arial"/>
              </a:rPr>
              <a:t>Monitoreo del Desempeño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cc00"/>
                </a:solidFill>
                <a:latin typeface="Arial"/>
              </a:rPr>
              <a:t>Es el seguimiento del desempeño de los elementos principales del proyecto o programa a través del tiempo. P. Eje.  (intervenciones, actividades y resultado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Arial"/>
              </a:rPr>
              <a:t>Vigilanc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cc00"/>
                </a:solidFill>
                <a:latin typeface="Arial"/>
              </a:rPr>
              <a:t>Es la recolección sistemática, continua, oportuna y confiable de la información relevante y necesaria sobre las condiciones de salud de la población. El análisis e interpretación de los datos deben proporcionar bases para la toma de decisiones y al mismo tiempo ser utilizados para su difusión (definición de PAHO).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Arial"/>
              </a:rPr>
              <a:t>Evaluación de Desempeño</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cc00"/>
                </a:solidFill>
                <a:latin typeface="Arial"/>
              </a:rPr>
              <a:t>Es la medición de la efectividad del programa, en su aproximación al cumplimiento de las metas en la población objetivo, atribuibles a la intervención del proyecto. También puede definirse como el análisis de las los insumos y actividades que contribuyen a los resultado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520" y="574200"/>
            <a:ext cx="6945120" cy="94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cc00"/>
                </a:solidFill>
                <a:latin typeface="Arial"/>
              </a:rPr>
              <a:t>Comparación entre Monitoreo y Evaluación</a:t>
            </a:r>
            <a:endParaRPr b="0" lang="en-US" sz="3000" spc="-1" strike="noStrike">
              <a:solidFill>
                <a:srgbClr val="ffffff"/>
              </a:solidFill>
              <a:latin typeface="Arial"/>
            </a:endParaRPr>
          </a:p>
        </p:txBody>
      </p:sp>
      <p:sp>
        <p:nvSpPr>
          <p:cNvPr id="136" name="PlaceHolder 2"/>
          <p:cNvSpPr>
            <a:spLocks noGrp="1"/>
          </p:cNvSpPr>
          <p:nvPr>
            <p:ph/>
          </p:nvPr>
        </p:nvSpPr>
        <p:spPr>
          <a:xfrm>
            <a:off x="761760" y="1980720"/>
            <a:ext cx="8001000" cy="3962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Monitoreo puede:</a:t>
            </a:r>
            <a:endParaRPr b="0" lang="en-US" sz="2000" spc="-1" strike="noStrike">
              <a:solidFill>
                <a:srgbClr val="ffffff"/>
              </a:solidFill>
              <a:latin typeface="Arial"/>
            </a:endParaRPr>
          </a:p>
          <a:p>
            <a:pPr marL="343080" indent="-343080">
              <a:lnSpc>
                <a:spcPct val="90000"/>
              </a:lnSpc>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Mensualmente indicar si el proyecto/programa ha sido implementado de la manera en que fue planeado</a:t>
            </a:r>
            <a:endParaRPr b="0" lang="en-US" sz="2000" spc="-1" strike="noStrike">
              <a:solidFill>
                <a:srgbClr val="ffffff"/>
              </a:solidFill>
              <a:latin typeface="Arial"/>
            </a:endParaRPr>
          </a:p>
          <a:p>
            <a:pPr marL="343080" indent="-343080">
              <a:lnSpc>
                <a:spcPct val="90000"/>
              </a:lnSpc>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Identificar cambios durante el tiempo teniendo en cuenta los insumos, los resultados y la utilización de servicios</a:t>
            </a:r>
            <a:endParaRPr b="0" lang="en-US" sz="2000" spc="-1" strike="noStrike">
              <a:solidFill>
                <a:srgbClr val="ffffff"/>
              </a:solidFill>
              <a:latin typeface="Arial"/>
            </a:endParaRPr>
          </a:p>
          <a:p>
            <a:pPr marL="343080" indent="-343080">
              <a:lnSpc>
                <a:spcPct val="90000"/>
              </a:lnSpc>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Sugerir las áreas problemáticas y ofrecer algunas soluciones</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El proceso de </a:t>
            </a:r>
            <a:r>
              <a:rPr b="1" lang="es-ES" sz="2000" spc="-1" strike="noStrike">
                <a:solidFill>
                  <a:srgbClr val="ffffff"/>
                </a:solidFill>
                <a:latin typeface="Arial"/>
              </a:rPr>
              <a:t>Evaluación puede:</a:t>
            </a:r>
            <a:endParaRPr b="0" lang="en-US" sz="2000" spc="-1" strike="noStrike">
              <a:solidFill>
                <a:srgbClr val="ffffff"/>
              </a:solidFill>
              <a:latin typeface="Arial"/>
            </a:endParaRPr>
          </a:p>
          <a:p>
            <a:pPr marL="343080" indent="-343080">
              <a:lnSpc>
                <a:spcPct val="90000"/>
              </a:lnSpc>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Identificar los cambios obtenidos como resultado de la intervención</a:t>
            </a:r>
            <a:endParaRPr b="0" lang="en-US" sz="2000" spc="-1" strike="noStrike">
              <a:solidFill>
                <a:srgbClr val="ffffff"/>
              </a:solidFill>
              <a:latin typeface="Arial"/>
            </a:endParaRPr>
          </a:p>
          <a:p>
            <a:pPr marL="343080" indent="-343080">
              <a:lnSpc>
                <a:spcPct val="90000"/>
              </a:lnSpc>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Indicar el grado de contribución del proyecto o programa a los cambios encontr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869840" y="487080"/>
            <a:ext cx="662292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ffffff"/>
                </a:solidFill>
                <a:latin typeface="Arial"/>
              </a:rPr>
              <a:t>Niveles de Monitoreo &amp; Evaluación</a:t>
            </a:r>
            <a:endParaRPr b="0" lang="en-US" sz="3900" spc="-1" strike="noStrike">
              <a:solidFill>
                <a:srgbClr val="ffffff"/>
              </a:solidFill>
              <a:latin typeface="Arial"/>
            </a:endParaRPr>
          </a:p>
        </p:txBody>
      </p:sp>
      <p:sp>
        <p:nvSpPr>
          <p:cNvPr id="138" name="PlaceHolder 2"/>
          <p:cNvSpPr>
            <a:spLocks noGrp="1"/>
          </p:cNvSpPr>
          <p:nvPr>
            <p:ph/>
          </p:nvPr>
        </p:nvSpPr>
        <p:spPr>
          <a:xfrm>
            <a:off x="762120" y="1828800"/>
            <a:ext cx="7772400" cy="4114800"/>
          </a:xfrm>
          <a:prstGeom prst="rect">
            <a:avLst/>
          </a:prstGeom>
          <a:noFill/>
          <a:ln w="9360">
            <a:solidFill>
              <a:srgbClr val="ffcc00"/>
            </a:solidFill>
            <a:miter/>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ernacional</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cc00"/>
                </a:solidFill>
                <a:latin typeface="Arial"/>
              </a:rPr>
              <a:t>Se utiliza para realizar comparaciones internacionales y hacer seguimiento de la respuesta global</a:t>
            </a:r>
            <a:endParaRPr b="0" lang="en-US" sz="21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acional </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cc00"/>
                </a:solidFill>
                <a:latin typeface="Arial"/>
              </a:rPr>
              <a:t>Hace seguimiento a la respuesta del país y fija las prioridades nacionales</a:t>
            </a:r>
            <a:endParaRPr b="0" lang="en-US" sz="21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gión/Distrito </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cc00"/>
                </a:solidFill>
                <a:latin typeface="Arial"/>
              </a:rPr>
              <a:t>  </a:t>
            </a:r>
            <a:r>
              <a:rPr b="0" lang="es-ES" sz="2100" spc="-1" strike="noStrike">
                <a:solidFill>
                  <a:srgbClr val="ffcc00"/>
                </a:solidFill>
                <a:latin typeface="Arial"/>
              </a:rPr>
              <a:t>Descentraliza y ayuda a la reforma del sector salud</a:t>
            </a:r>
            <a:endParaRPr b="0" lang="en-US" sz="21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yecto/Programa </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Implementación del sistema de monitoreo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604800"/>
          </a:xfrm>
          <a:prstGeom prst="rect">
            <a:avLst/>
          </a:prstGeom>
          <a:noFill/>
          <a:ln w="9360">
            <a:solidFill>
              <a:srgbClr val="ffcc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ILUSTRACION DE LOS DATOS DE MONITOREO  </a:t>
            </a:r>
            <a:endParaRPr b="0" lang="en-US" sz="2400" spc="-1" strike="noStrike">
              <a:solidFill>
                <a:srgbClr val="ffffff"/>
              </a:solidFill>
              <a:latin typeface="Arial"/>
            </a:endParaRPr>
          </a:p>
        </p:txBody>
      </p:sp>
      <p:sp>
        <p:nvSpPr>
          <p:cNvPr id="140" name="PlaceHolder 2"/>
          <p:cNvSpPr>
            <a:spLocks noGrp="1"/>
          </p:cNvSpPr>
          <p:nvPr>
            <p:ph/>
          </p:nvPr>
        </p:nvSpPr>
        <p:spPr>
          <a:xfrm>
            <a:off x="533160" y="1447560"/>
            <a:ext cx="838188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41" name=""/>
          <p:cNvGraphicFramePr/>
          <p:nvPr/>
        </p:nvGraphicFramePr>
        <p:xfrm>
          <a:off x="1447920" y="1752480"/>
          <a:ext cx="6324480" cy="4138560"/>
        </p:xfrm>
        <a:graphic>
          <a:graphicData uri="http://schemas.openxmlformats.org/presentationml/2006/ole">
            <p:oleObj progId="PowerPoint.Show.12" r:id="rId1" spid="">
              <p:embed/>
              <p:pic>
                <p:nvPicPr>
                  <p:cNvPr id="142" name="" descr=""/>
                  <p:cNvPicPr/>
                  <p:nvPr/>
                </p:nvPicPr>
                <p:blipFill>
                  <a:blip r:embed="rId2"/>
                  <a:stretch/>
                </p:blipFill>
                <p:spPr>
                  <a:xfrm>
                    <a:off x="1447920" y="1752480"/>
                    <a:ext cx="6324480" cy="41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03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ff"/>
                </a:solidFill>
                <a:latin typeface="Arial"/>
              </a:rPr>
              <a:t>ILUSTRACION DEL PROCESO DE EVALUACION (Evaluación de los indicadores de efecto “impacto”)  </a:t>
            </a:r>
            <a:endParaRPr b="0" lang="en-US" sz="2200" spc="-1" strike="noStrike">
              <a:solidFill>
                <a:srgbClr val="ffffff"/>
              </a:solidFill>
              <a:latin typeface="Arial"/>
            </a:endParaRPr>
          </a:p>
        </p:txBody>
      </p:sp>
      <p:graphicFrame>
        <p:nvGraphicFramePr>
          <p:cNvPr id="144" name=""/>
          <p:cNvGraphicFramePr/>
          <p:nvPr/>
        </p:nvGraphicFramePr>
        <p:xfrm>
          <a:off x="1905120" y="1523880"/>
          <a:ext cx="5983200" cy="4488120"/>
        </p:xfrm>
        <a:graphic>
          <a:graphicData uri="http://schemas.openxmlformats.org/presentationml/2006/ole">
            <p:oleObj progId="PowerPoint.Show.12" r:id="rId1" spid="">
              <p:embed/>
              <p:pic>
                <p:nvPicPr>
                  <p:cNvPr id="145" name="" descr=""/>
                  <p:cNvPicPr/>
                  <p:nvPr/>
                </p:nvPicPr>
                <p:blipFill>
                  <a:blip r:embed="rId2"/>
                  <a:stretch/>
                </p:blipFill>
                <p:spPr>
                  <a:xfrm>
                    <a:off x="1905120" y="1523880"/>
                    <a:ext cx="5983200" cy="448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15:21Z</dcterms:created>
  <dc:creator>Erin Eckert</dc:creator>
  <dc:description/>
  <dc:language>en-US</dc:language>
  <cp:lastModifiedBy>Jessica Posner</cp:lastModifiedBy>
  <dcterms:modified xsi:type="dcterms:W3CDTF">2005-03-07T20:15:23Z</dcterms:modified>
  <cp:revision>33</cp:revision>
  <dc:subject/>
  <dc:title>Monitoring and Evaluation of HIV/AIDS programs</dc:title>
</cp:coreProperties>
</file>